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meepmeep.wav" ContentType="audio/x-wav"/>
  <Override PartName="/ppt/media/hzipup01.wav" ContentType="audio/x-wav"/>
  <Override PartName="/ppt/media/highchime.wav" ContentType="audio/x-wav"/>
  <Override PartName="/ppt/media/jetflyby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FC2-ACB2-4EB9-9E2B-047C8FB3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87B-B3BD-43A3-93AA-246523DE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D31-5EA5-41C0-8097-F86739E4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F0F-3F30-49C2-BEFB-EDB316B9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4B1-9B5D-41B6-B456-C25B470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828-344A-4DD8-80AD-3CF36D5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062-F67D-4D66-8532-FE2670F9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2B5-0611-4EF2-9DCE-F1345E87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FED-6301-4456-9632-51257487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10C-DBEB-46A9-942C-E6DEB361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A39-CCCC-4592-B60D-9AC2DD3B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51CE-906A-4896-8ACB-04E59D0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ACD-EDE4-4846-8C16-AD34E70A8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meepmeep.wav"/><Relationship Id="rId6" Type="http://schemas.openxmlformats.org/officeDocument/2006/relationships/audio" Target="../media/bserie06.wav"/><Relationship Id="rId7" Type="http://schemas.openxmlformats.org/officeDocument/2006/relationships/audio" Target="../media/meepmeep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meepmeep.wav"/><Relationship Id="rId11" Type="http://schemas.openxmlformats.org/officeDocument/2006/relationships/audio" Target="../media/bserie06.wav"/><Relationship Id="rId12" Type="http://schemas.openxmlformats.org/officeDocument/2006/relationships/audio" Target="../media/meepmeep.wav"/><Relationship Id="rId13" Type="http://schemas.openxmlformats.org/officeDocument/2006/relationships/audio" Target="../media/bserie06.wav"/><Relationship Id="rId14" Type="http://schemas.openxmlformats.org/officeDocument/2006/relationships/audio" Target="../media/meepmeep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meepmeep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highchime.wav"/><Relationship Id="rId20" Type="http://schemas.openxmlformats.org/officeDocument/2006/relationships/audio" Target="../media/jetflyby.wav"/><Relationship Id="rId21" Type="http://schemas.openxmlformats.org/officeDocument/2006/relationships/audio" Target="../media/jetflyby.wav"/><Relationship Id="rId22" Type="http://schemas.openxmlformats.org/officeDocument/2006/relationships/audio" Target="../media/jetflyby.wav"/><Relationship Id="rId23" Type="http://schemas.openxmlformats.org/officeDocument/2006/relationships/audio" Target="../media/jetflyby.wav"/><Relationship Id="rId24" Type="http://schemas.openxmlformats.org/officeDocument/2006/relationships/audio" Target="../media/jetflyby.wav"/><Relationship Id="rId25" Type="http://schemas.openxmlformats.org/officeDocument/2006/relationships/audio" Target="../media/jetflyby.wav"/><Relationship Id="rId26" Type="http://schemas.openxmlformats.org/officeDocument/2006/relationships/audio" Target="../media/meepmeep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meepmeep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jetflyby.wav"/><Relationship Id="rId20" Type="http://schemas.openxmlformats.org/officeDocument/2006/relationships/audio" Target="../media/jetflyby.wav"/><Relationship Id="rId21" Type="http://schemas.openxmlformats.org/officeDocument/2006/relationships/audio" Target="../media/jetflyby.wav"/><Relationship Id="rId22" Type="http://schemas.openxmlformats.org/officeDocument/2006/relationships/audio" Target="../media/jetflyby.wav"/><Relationship Id="rId23" Type="http://schemas.openxmlformats.org/officeDocument/2006/relationships/audio" Target="../media/jetflyby.wav"/><Relationship Id="rId24" Type="http://schemas.openxmlformats.org/officeDocument/2006/relationships/audio" Target="../media/jetflyby.wav"/><Relationship Id="rId25" Type="http://schemas.openxmlformats.org/officeDocument/2006/relationships/audio" Target="../media/meepmeep.wav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meepmee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jetflyby.wav"/><Relationship Id="rId20" Type="http://schemas.openxmlformats.org/officeDocument/2006/relationships/audio" Target="../media/jetflyby.wav"/><Relationship Id="rId21" Type="http://schemas.openxmlformats.org/officeDocument/2006/relationships/audio" Target="../media/jetflyby.wav"/><Relationship Id="rId22" Type="http://schemas.openxmlformats.org/officeDocument/2006/relationships/audio" Target="../media/jetflyby.wav"/><Relationship Id="rId23" Type="http://schemas.openxmlformats.org/officeDocument/2006/relationships/audio" Target="../media/jetflyby.wav"/><Relationship Id="rId24" Type="http://schemas.openxmlformats.org/officeDocument/2006/relationships/audio" Target="../media/jetflyby.wav"/><Relationship Id="rId25" Type="http://schemas.openxmlformats.org/officeDocument/2006/relationships/audio" Target="../media/meepmeep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meepmeep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meepmeep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meepmeep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Place values of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05560" y="198900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3000000">
            <a:off x="6544080" y="235872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7240" y="1996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3000000">
            <a:off x="5675760" y="2366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75040" y="19954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3000000">
            <a:off x="4739400" y="2528280"/>
            <a:ext cx="18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48040" y="19954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3000000">
            <a:off x="3607920" y="2966400"/>
            <a:ext cx="29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2040" y="19954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3000000">
            <a:off x="2726640" y="304596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58920" y="20001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3000000">
            <a:off x="1738800" y="3366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64000" y="157788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46320" y="200340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3000000">
            <a:off x="970200" y="303948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73080" y="158436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70720" y="3652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3000000">
            <a:off x="6609240" y="402264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2400" y="36608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3000000">
            <a:off x="5741280" y="403020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40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3000000">
            <a:off x="4804200" y="419184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13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3000000">
            <a:off x="3672720" y="463032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7200" y="365904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000000">
            <a:off x="2791080" y="470952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24080" y="36640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3000000">
            <a:off x="1803960" y="5030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9160" y="32418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11120" y="36669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3000000">
            <a:off x="1035360" y="47034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38240" y="3247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97680" y="11872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508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40760" y="11811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18480" y="11937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784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4320" y="11937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51080" y="2481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undred-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-4.72222E-006 2.42775E-006 L -0.13802 0.23884 E">
                                      <p:cBhvr>
                                        <p:cTn id="18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animMotion origin="layout" path="M -1.94444E-006 -1.50289E-006 L -0.20469 0.24324 E">
                                      <p:cBhvr>
                                        <p:cTn id="19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2.77778E-006 -2.71676E-006 L -0.26823 0.24301 E">
                                      <p:cBhvr>
                                        <p:cTn id="19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animMotion origin="layout" path="M -0.00799 0.00208 L -0.31268 0.237 E">
                                      <p:cBhvr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-4.44444E-006 -1.50289E-006 L -0.38559 0.24093 E">
                                      <p:cBhvr>
                                        <p:cTn id="21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.wav"/>
                                        </p:tgtEl>
                                      </p:cMediaNode>
                                    </p:audio>
                                    <p:animMotion origin="layout" path="M 5E-006 -2.42775E-006 L -0.44775 0.23862 E">
                                      <p:cBhvr>
                                        <p:cTn id="21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51080" y="2481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undred-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5880" y="3135240"/>
            <a:ext cx="74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value of the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8360" y="386388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00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70720" y="3652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3000000">
            <a:off x="6609240" y="402264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02400" y="36608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3000000">
            <a:off x="5741280" y="403020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0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000000">
            <a:off x="4804200" y="419184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13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3672720" y="463032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0" y="365904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3000000">
            <a:off x="2791080" y="470952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24080" y="36640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3000000">
            <a:off x="1803960" y="5030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29160" y="32418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11120" y="36669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3000000">
            <a:off x="1035360" y="47034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8240" y="3247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7680" y="11872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1508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40760" y="11811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18480" y="11937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5784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94320" y="11937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13240" y="2481120"/>
            <a:ext cx="30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.wav"/>
                                        </p:tgtEl>
                                      </p:cMediaNode>
                                    </p:audio>
                                    <p:animMotion origin="layout" path="M -4.72222E-006 2.42775E-006 L -0.13802 0.23884 E">
                                      <p:cBhvr>
                                        <p:cTn id="343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-1.94444E-006 -1.50289E-006 L -0.20469 0.24324 E">
                                      <p:cBhvr>
                                        <p:cTn id="35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animMotion origin="layout" path="M 2.77778E-006 -2.71676E-006 L -0.26823 0.24301 E">
                                      <p:cBhvr>
                                        <p:cTn id="35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-0.00799 0.00208 L -0.31268 0.237 E">
                                      <p:cBhvr>
                                        <p:cTn id="36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animMotion origin="layout" path="M -4.44444E-006 -1.50289E-006 L -0.38559 0.24093 E">
                                      <p:cBhvr>
                                        <p:cTn id="37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5E-006 -2.42775E-006 L -0.44775 0.23862 E">
                                      <p:cBhvr>
                                        <p:cTn id="37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3240" y="2481120"/>
            <a:ext cx="30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5880" y="3135240"/>
            <a:ext cx="74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value of the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2240" y="3848040"/>
            <a:ext cx="25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0720" y="365292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3000000">
            <a:off x="6609240" y="402264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2400" y="36608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3000000">
            <a:off x="5741280" y="4030200"/>
            <a:ext cx="14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40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3000000">
            <a:off x="4804200" y="419184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13200" y="365904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3000000">
            <a:off x="3672720" y="4630320"/>
            <a:ext cx="29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0" y="3659040"/>
            <a:ext cx="68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3000000">
            <a:off x="2791080" y="470952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080" y="366408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3000000">
            <a:off x="1803960" y="5030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dred-Thou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29160" y="324180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11120" y="3666960"/>
            <a:ext cx="68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000000">
            <a:off x="1035360" y="4703400"/>
            <a:ext cx="317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38240" y="3247920"/>
            <a:ext cx="39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97680" y="118728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508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40760" y="11811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18480" y="1193760"/>
            <a:ext cx="86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1793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94320" y="1193760"/>
            <a:ext cx="87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8120" y="249552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.wav"/>
                                        </p:tgtEl>
                                      </p:cMediaNode>
                                    </p:audio>
                                    <p:animMotion origin="layout" path="M -4.72222E-006 2.42775E-006 L -0.13802 0.23884 E">
                                      <p:cBhvr>
                                        <p:cTn id="50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animMotion origin="layout" path="M -1.94444E-006 -1.50289E-006 L -0.20469 0.24324 E">
                                      <p:cBhvr>
                                        <p:cTn id="50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animMotion origin="layout" path="M 2.77778E-006 -2.71676E-006 L -0.26823 0.24301 E">
                                      <p:cBhvr>
                                        <p:cTn id="5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-0.00799 0.00208 L -0.31268 0.237 E">
                                      <p:cBhvr>
                                        <p:cTn id="52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animMotion origin="layout" path="M -4.44444E-006 -1.50289E-006 L -0.38559 0.24093 E">
                                      <p:cBhvr>
                                        <p:cTn id="53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5E-006 -2.42775E-006 L -0.44775 0.23862 E">
                                      <p:cBhvr>
                                        <p:cTn id="537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value of each numeral in each numb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. What is the value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 532,198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3240" y="1967040"/>
            <a:ext cx="74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place value of the 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8120" y="249552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5880" y="3135240"/>
            <a:ext cx="74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What is the value of the 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2960" y="38052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mpare the numbers using &gt;, &lt;, or =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760" y="127800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Comp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5,341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963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44880" y="2141640"/>
            <a:ext cx="364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5,341       9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11440" y="2109960"/>
            <a:ext cx="88596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6320" y="1857240"/>
            <a:ext cx="6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760" y="315756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Comp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5,163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25,614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5560" y="402120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25,163       25,6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11440" y="3989520"/>
            <a:ext cx="88596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6320" y="3736800"/>
            <a:ext cx="6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760" y="4967280"/>
            <a:ext cx="89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3. Compar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5,100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25,100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1000" y="5845320"/>
            <a:ext cx="49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125,100       125,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11440" y="5799240"/>
            <a:ext cx="88596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6320" y="5546880"/>
            <a:ext cx="66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5, 1 – 1 #1-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, 1 – 2 #1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09T11:30:58Z</dcterms:modified>
  <cp:revision>45</cp:revision>
  <dc:subject/>
  <dc:title>Slide 1</dc:title>
</cp:coreProperties>
</file>